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882E-28CC-4CDF-8E7F-D9BB8F491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C0D7-3DC2-41F8-8D23-84B84BB73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B2FF-515B-4A4D-82B0-8136FBF82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DF54-72D3-42F8-847A-F2ABD0F20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411E-6595-4B93-9D4D-9CA0161A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AF6B3-B402-4BE9-82A3-B48BDD0D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AF37D-8C97-4F82-8AE4-987069B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FC507-F933-4AC9-8F73-4C93038D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B1D14-1619-4C64-BE34-1292684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BF95-62AF-479D-AB2D-9011B8D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59F2-2210-4CA3-B4EE-F0F9EF7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80DC-DC74-46B0-A6F7-A447697B7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686CD-716A-4565-911F-5305521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74E52-DAD3-441A-87D2-56C442C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FA11-6AEE-4245-B51C-3B60EBF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667B-FE2F-413E-A1F3-C0E52FB2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30E7D-1631-4C0F-9002-2BD84AEA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4717-59D6-4D3D-BDD3-EDA1E5A97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CCF9-90D1-4457-BAB4-2750AE491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A092-AEED-4BBB-B8C4-DC8DD511F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C53B-186F-4346-BA22-4449CEB38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1376-5F67-422B-AB4C-EA7C00D21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2417-9AAF-4DFA-BD7B-4D9BF9E46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A979-D169-4B1B-96A6-844E42ECC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EA64-67D1-435D-9A54-66C6CA4A1733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8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9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B7FD-9810-4180-8D5A-F9634181619A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5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335772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Стационарна здравствена установа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Систем расподеле индивидуалне терапије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Систем јединичне расподеле лекова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53440" cy="6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Расподелу лекова пацијентима и њихову примену треба да надзир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(виши)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фармацеутски техничар из сателитске или централне апотек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а посебној листи за примену леков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медицинск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ехничар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писује лекове које је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терапијски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римен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 потписује с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Фармацеутски техничар који надзире примену лекова својим потписом на истој листи потвр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ј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уколико је тако урађено)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д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је лек примењен на одговарајући начи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односно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 одговарајуће врем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69880"/>
            <a:ext cx="821844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8480"/>
            <a:ext cx="807552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 свак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систему дистрибуције леков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потребе пацијената су на првом месту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оквиру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РИТ-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 из тог разлога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а сваком одељењу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реба да постој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орман са лековима за 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хитна стања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који садржи све лекове који би се на том одељењу могли применити ургентно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001000" cy="4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6680" y="1700280"/>
            <a:ext cx="82389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тручни колегијум одељења, уз помоћ клиничког фармаколога или фармацеута, треба да формира 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листу лекова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ји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 се налазити у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оменутом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рману, као и да одреди количине тих лекова потребне за 72 часа з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аксималан број болесника које то одељење може да прим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26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жно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ј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а листа не буде ни прекратка, ни предуг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еално одредити 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26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ада се формира листа, орман се попуни према њој и од тад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је откључан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екови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су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оступни свим лекарима и медицинским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техничарима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дељењу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хитним ситуација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а или за време дежурств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ректно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е мож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зети лек који је неопхода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ваког радног дана орман се занавља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ndara"/>
              </a:rPr>
              <a:t>само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на основу детаљног извештаја о утрошку лекова у претходн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             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24 часа или током претходног викенд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држ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ј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звештај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име и презиме пацијента, број собе и кревета, дијагно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лек који је утрошен, до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и облик лека, разлог његове употреб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звештај треб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а буд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датиран, потписан и са факсимилом лекара који г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тписао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потека која издаје лекове у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РИТ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-у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же да формира свој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зла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тј. да с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аздуж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са лековима само кроз извештаје о издатим лековима за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ваког пацијент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48572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едност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истем о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езбеђује прецизно праћење кретања сваке кутије лека кроз болницу до момента његове примене, чиме се смањује могућност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отуђивањ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еко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могућава контролу адекватности прописане терапије (контролиш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је кл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чки фармаколог или фармацеут)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ndara"/>
              </a:rPr>
              <a:t>пре него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што се терапија изд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чим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е омогућава правовремено откривање грешака у прописивању (интеракције лекова, неодговарајућа доза, неодговарајућа индикација) и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вентуална корекци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1760"/>
            <a:ext cx="835344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0172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Предност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лобађа медицинске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ехничаре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осла око дистрибуције лекова и даје им више времена за негу пацијенат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лиминише присуство непотребн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лекова на одељењу, кроз утврђивање одељењске листе лекова кој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је неопходна за започињање и одржавање систем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едостаци СРИТ-а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3160"/>
            <a:ext cx="81360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достац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Финансијски, в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ћа потреба за радном снагом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         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(два фармацеутска т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ничара на 100 постеља, присуство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фармацеута на одељењима)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ко се терапија преписује са температурно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­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терапијске листе на колективни рецепт, увећава се могућност појаве грешке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Још б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љи систем од СРИТ-а ј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истем јединичне расподеле лекова (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итем је развијен и први пут имплементиран у Америци (1960. године) због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пречавања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туђивања леков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(која се у америчкој литератури често описује као „преусмеравање“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ужања јасних ревизорских трагов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дентификације тачних трошкова за потребе наплат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 смањења грешака у примени леков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зраз "јединична доза" користи се за описивање облика паковања у којем је свака појединачна доза одвојено пакована и означена именом производа, јачином и роком употреб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екови се пакују и дистрибуирају у јединичним дозама, при чему се свака доза лека засебно пакује и етикетира (име лека, доза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lot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рој и датум/рок употребе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давно је додан идентификатор баркод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 чврсте оралне фармацеутске облике ‘јединичне’ дозе могу се представити као појединачне, блистер дозе; дозе умотане у фолију или дозе у појединачним кесица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ругачији облик паковања ‘јединичне’ дозе је онај где се у истој врећици пакује неколико доза које се узимају истовремен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вај облик амбалаже лекова коришћен је, на пример, за пацијенте у домовима за стамбено збрињавање или за пацијенте који нису добри комплајер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1844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истем расподеле индивидуалне терапиј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истем расподеле индивидуалне терапије (СРИТ)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редставља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систем дистрибуције лекова у болници који подразумева расподелу </a:t>
            </a:r>
            <a:r>
              <a:rPr b="1" lang="sr-Latn-CS" sz="26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невних доза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лека пацијентима на од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ље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њу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ваки пацијент добија дневну дозу сваког лек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посебно спаковану у кесиц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ама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(ако се ради о оралним облицима лекова)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ли у оквиру дневне поделе терапије (ако се ради о парентералним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репаратима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нутар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овог система,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свак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оз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лека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ојединачно пакуј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з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сваког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, а дозе парентералних препарата увлаче у бризгалице и потпуно припремају за употреб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‘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Јединичне’  дозе течних фармацеутских формулација могу се добити у малим тубама или у пластичним епрувета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‘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Јединичне’ дозе капи за очи и масти за очи већ су дуго доступне за употреб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игурнији за пацијен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фикаснији и економичнији за институцију 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фикаснији метод употребе професионалних ресурс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ацијент прима побољшане фармацеутске услуге 24 сата дневн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ве потребне лекове припрема апотека чиме сестри пружа више времена за директну негу пацијен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могућава апотекарима да протумаче или провере копију оригиналног налога лекара, чиме  се смањује учесталост греша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Елиминише прекомерно дуплирање наруџби и рада на папиру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едности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мањење учесталости греша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мањење укупних трошкова (лекови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Ефикаснији рад апотекарског и медицинског особљ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обољшана контрола (и праћење) употребе леков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Тачније обрачунавање трошкова за леков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ећа контрола од стране фармацеута над обрасцима радног оптерећења и распоредом особљ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мањење величине залиха лекова смештених у зонама неге пацијена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ећа прилагодљивост рачунарским и аутоматизованим процедурам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Фармацеути могу изаћи из апотеке и одељења и да пружају консултантске услуге везане за терапију и на тај начин потпомогну бољу негу пацијена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достаци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аковање лекова-повећање трошков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ећање броја фармацеутског особљ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опходан већи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простор за складиштење лекова-колица за леков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ра електонских рецепата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озната су два основна типа 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DS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Централизовани (CUDS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централизовани (DUDS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UDS- централна апоте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UDS- сателитске апотек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мерички аутори изнели су став да би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S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системе требало усвојити у свим системима секундарне здравствене заштите широм све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окалне околност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оге велике америчке болничке апотеке отворене 24 сата дневно, седам дана у недељи и запошљавају веома велики број особља - две карактеристике које су неопходне за функционисање ефикасног система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S- да ли прилике у Европи то дозвољавају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САД-у, болнице могу да набаве лекове који су упаковани у јединичне дозе од стране произвођач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37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на пример, паковање од 1000 таблета састојало од 1000 појединачно пакованих, обележених и бар кодираних таблета</a:t>
            </a: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строго тестираних од стране произвођача (стабилност)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Европи неке болнице корист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S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системе иако фармацеутска индустрија не испоручује јединичне доз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ећина чврстих оралних доза нуди се у стандардним блистер паковањим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пољашње паковање је означено именом и дозом лека, али често појединачни блистери нис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а би претворили ову врсту амбалаже у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UDS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систем, фармацеути су усвојили једну од две опције које су им на располагању - раздвајање делова и препакирање појединих таблета или капсула у одвојене врећице или одвајање блистера сечењем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Deblistering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( уклањање доза из блистер паковања оригиналног произвођача) је повезано са бројним проблемима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дуготрајан и захтеван процес (ако се ради ручно). У ту сврху су недавно представљене аутоматске и ручно управљане машине за раздвајањ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остоји могућност унакрсне контаминације уколико се користи иста маш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стабилност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крајњег производа не може се гарантовати јер је оригинално паковање произвођача угрожен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ање и одвајање појединачних блистера и њихово паковање у појединачне кесице је још једна опци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лавна предност ове методе је у томе што интегритет и стабилност оригиналног паковања није угроже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ступне су машине за одвајање блистера резањем између истих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Међутим, недостаци су у томе што је потребно много времена за извођење и тешко је отворити блистере након што су раздвојени, јер има мало простора за ‘полуге’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U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nit-dose system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армацеут постаје активније укључен у проверу рецепата за потенцијалн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реш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‟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у току прописивања или издавања леко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ђутим,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вај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истем захтева знатно више фармацеутског особља, добро обученог, као и уређаје за аутоматско паковање појединачних доза, уз комплетну рачунарску подршку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Генерално, у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ођење 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јединичн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асподеле лекова треба да буде резервисано само за болнице које располажу поменутим ресурсима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Предност у 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дносу на традиционални систем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712880"/>
            <a:ext cx="82803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Како се с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ваког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дана терапиј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оново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дели, тако овај систем елиминише проблем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који је присутан у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традиционалн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м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систем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дистрибуције лекова: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marL="3538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marL="35388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i="1" lang="en-US" sz="2700" spc="-1" strike="noStrike">
                <a:solidFill>
                  <a:srgbClr val="000000"/>
                </a:solidFill>
                <a:latin typeface="Candara"/>
              </a:rPr>
              <a:t>та урадити са лековима који су пацијенту издати, а он и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i="1" lang="en-US" sz="2700" spc="-1" strike="noStrike">
                <a:solidFill>
                  <a:srgbClr val="000000"/>
                </a:solidFill>
                <a:latin typeface="Candara"/>
              </a:rPr>
              <a:t> није потрошио 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до </a:t>
            </a:r>
            <a:r>
              <a:rPr b="0" i="1" lang="en-US" sz="2700" spc="-1" strike="noStrike">
                <a:solidFill>
                  <a:srgbClr val="000000"/>
                </a:solidFill>
                <a:latin typeface="Candara"/>
              </a:rPr>
              <a:t>тренутк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i="1" lang="en-US" sz="2700" spc="-1" strike="noStrike">
                <a:solidFill>
                  <a:srgbClr val="000000"/>
                </a:solidFill>
                <a:latin typeface="Candara"/>
              </a:rPr>
              <a:t> отпуста из болнице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?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Издавање лекова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рактично издавање лекова представља веома значајну карику у ланцу активности пружања адекватне здравствене заштите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 појединим случајевима,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уцањ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ланца на овом месту може имати и озбиљан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епилог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Грешке у издавању лекова на различитим нивоима система издавања лекова могу бити присутне у пракси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42800"/>
            <a:ext cx="821844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решке у издавању леков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76928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грешна интерпретација рецепта или дијагноз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зимање погрешног лека из магацин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здавање погрешне дозе лек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грешно бројање или одмеравањ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еадекватно означавање лек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епознавање природе болести пацијент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едов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љ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а врем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енск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освећен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т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пацијенту </a:t>
            </a:r>
            <a:r>
              <a:rPr b="0" i="1" lang="sr-CS" sz="2600" spc="-1" strike="noStrike">
                <a:solidFill>
                  <a:srgbClr val="000000"/>
                </a:solidFill>
                <a:latin typeface="Candara"/>
              </a:rPr>
              <a:t>(Недово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љ</a:t>
            </a:r>
            <a:r>
              <a:rPr b="0" i="1" lang="sr-CS" sz="2600" spc="-1" strike="noStrike">
                <a:solidFill>
                  <a:srgbClr val="000000"/>
                </a:solidFill>
                <a:latin typeface="Candara"/>
              </a:rPr>
              <a:t>но </a:t>
            </a:r>
            <a:r>
              <a:rPr b="0" i="1" lang="sr-Latn-CS" sz="2600" spc="-1" strike="noStrike">
                <a:solidFill>
                  <a:srgbClr val="000000"/>
                </a:solidFill>
                <a:latin typeface="Candara"/>
              </a:rPr>
              <a:t>објашњење п</a:t>
            </a:r>
            <a:r>
              <a:rPr b="0" i="1" lang="sr-CS" sz="2600" spc="-1" strike="noStrike">
                <a:solidFill>
                  <a:srgbClr val="000000"/>
                </a:solidFill>
                <a:latin typeface="Candara"/>
              </a:rPr>
              <a:t>ацијенту како да користи лек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95120"/>
            <a:ext cx="821844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истем аутоматског издавања леков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очетак развоја – осамдесете године прошлог век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истем повећава ефикасност издавања лекова и управљања залихама апотеке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имултано обавља паковање и издавање (брза, контролисана, правилна испорука лекова)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Редукује медицинске грешке и повећава безбедност пацијента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овећава продуктивност апотеке и побољшава квалитет живота фармацеута и фармацеутских техничара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Већина система захтев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римену приступне к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рисничке лозинк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(контролисани приступ)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руж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податке финансијск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ј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лужби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потреби лекова, неопходне за израду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болничк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г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рачун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пацијент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истем аутоматског издавања леков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истеми аутоматског издавања леков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Централизовани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Децентрализовани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3000" spc="-1" strike="noStrike">
                <a:solidFill>
                  <a:srgbClr val="000000"/>
                </a:solidFill>
                <a:latin typeface="Candara"/>
              </a:rPr>
              <a:t>Примери...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Литератур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631880"/>
            <a:ext cx="8280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Radonjic V, Jankovic S. Klinicka farmacija. Medicinski fakultet u Kragujevcu, 2008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LIMS. Urednici:, Nenad Ugrešić, Vesela Radonjić, Ljiljana Đukić, Violeta Stanimirović, Branka Terzić. Farmakoterapijski vodič 6. Agencija za lekove i medicinska sredstva Srbije Beograd, 2016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Goldberg LA. Unit dose drug distribution in Europe. Cogora London  2020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Goyal RK,Parikh RK,Patel MM. A Text Book Of Hospital Pharmacy. B.S.SHAH Prakashan.2018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ang GS, Severtson SG, Bau GE, Dart RC, Green JL. Unit-Dose Packaging and Unintentional Buprenorphine-Naloxone Exposures. Pediatrics. 2018;141(6). pii: e20174232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Nemethy EM, Collens SR. Unit dose drug distribution in teaching hospitals: key characteristics and centralized versus decentralized approaches. Can J Hosp Pharm. 1990;43(2):61-5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РИ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Т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Лекари прописују дневну терапију за сваког пацијента на посебној листи (терапијска листа)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 тзв. колективном рецепту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53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53880" indent="-353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 оба случаја, за сваког пацијента мора бити назначено: име и презиме, број историје болести, број собе и кревета, дијагноза, назив лека, облик лек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ојединачна доза, дозни интервал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као и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м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презиме односно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потпис лекара који је прописао терапију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53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колико се у болници користе традиционалне температурно-терапијске листе,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репорука је да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рописана терапиј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треба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andara"/>
              </a:rPr>
              <a:t>п</a:t>
            </a:r>
            <a:r>
              <a:rPr b="1" lang="sr-Latn-CS" sz="2700" spc="-1" strike="noStrike" u="sng">
                <a:solidFill>
                  <a:srgbClr val="000000"/>
                </a:solidFill>
                <a:uFillTx/>
                <a:latin typeface="Candara"/>
              </a:rPr>
              <a:t>р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andara"/>
              </a:rPr>
              <a:t>еписати</a:t>
            </a:r>
            <a:r>
              <a:rPr b="1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на колективни рецепт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бзиром да т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кав начин рада повећава утрошак времена особља и ствара могућност појаве грешака приликом преписивања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рационалније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користити посебну листу за прописивање лекова, на основу које се врши издавање лекова из одељењске апотеке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CS" sz="3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01360"/>
            <a:ext cx="8280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осебна т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рапиј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ка листа треба да има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воју индиго­копију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; по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завршетку болничког лечења пацијент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 она остаје у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историј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болести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и потом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корист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за израду рачун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ригинал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листе чув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се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у одељењској апотеци као доказ о утрошеним лековима (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злаз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из апотеке)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ndara"/>
              </a:rPr>
              <a:t>Савременији приступ СРИТ-у</a:t>
            </a:r>
            <a:endParaRPr b="1" lang="en-US" sz="3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0172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ко постоји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адекватна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рачунарска мрежа у болници, лекари терапију могу директно уносити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 рачунар; прописана терапиј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је “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режом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доступна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одељењск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ј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апот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ци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, гд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је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фармацеут (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фар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цеутски техничар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очитав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утем свог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рачунара и издаје медицин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ко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м техничару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Предност: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инимална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огућност грешак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Централна и/или сателитске апотек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описане лекове за 24 часа издаје одељењска или централна 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те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зависно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т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од величине болнице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танове са мање од 200 постеља могу организовати цео систем индивидуалне расподеле из централне апотеке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 установе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требај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формирати тзв.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ателитск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апотеке, које покривају до 100 постеља, обично у оквиру једне клиник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већег одељењ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Чврсти облици лекова за оралну или ректалну примену (таблете, капсуле, чепићи) пакују се у папирне или пластичне кесице - дневна доза сваког лек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осебн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кесиц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, за сваког пацијент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69720"/>
            <a:ext cx="821844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СРИТ</a:t>
            </a:r>
            <a:endParaRPr b="1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а кесици се мора написати (или залепити одштампана налепница) следеће: име и презиме пацијента, број собе и кревета, назив лека, облик, доза, пут и начин примен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Тако припремљене кесице се издају медицинск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ехничару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са одељења, ко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их пакује на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пецијална колица, са претинцем за сваког болесник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кови за парентералну примену и течни лековити препарати за оралну или локалну примену се издају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за све болеснике заједно, у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количини потребној з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24 часа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0:02:09Z</dcterms:created>
  <dc:creator>Marko</dc:creator>
  <dc:description/>
  <dc:language>en-US</dc:language>
  <cp:lastModifiedBy>User13</cp:lastModifiedBy>
  <dcterms:modified xsi:type="dcterms:W3CDTF">2021-01-29T08:35:27Z</dcterms:modified>
  <cp:revision>320</cp:revision>
  <dc:subject>Klinicki farmakolog</dc:subject>
  <dc:title>Verzija za sajt fakulteta</dc:title>
</cp:coreProperties>
</file>